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A4B9-D09D-4B79-9CB8-B569E0337D70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5155-B371-4E42-977A-345D8D2D7CF7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1F7A-6F4B-4CBE-BF6E-1DC520D096A1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18E1-F656-43BC-BA89-E36D8119ADB7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670A-BEA3-497D-9973-3992DD690A59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EE1-ACD5-48B1-AC52-C3F38CF092B2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772C-BFC1-4588-9730-4A658B984A43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9186-BE26-4D7A-B558-A1E2CE5F050D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98B8-046A-4564-861E-E3D48612ECA7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AB1B-1F7F-492E-85F1-36493DAB0B4A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B3CA-2B54-4B7C-9C52-1FBFF6B7A3D6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AC2A-2A66-4927-BD71-9EF07D929818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4DF9-7E15-4335-8B14-84E3ECA4D7EA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9619-EFFF-42BE-89BE-888AEB80B0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545D-77CF-43C8-A1EC-1E6DECCB5AA0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F0EB-7BC4-479C-A996-40CCDE6790E5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30F7-CCB3-4581-9C6D-E3A6EAE844C4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ED7E-485F-46A7-84A1-0B2FAF8964C7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F86E-4E1B-4028-95D4-F1575A353B04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7754-2428-48BD-BE0F-6C29E246ED0C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2789-F0D3-44C1-9F10-1B802EADE658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A7C-A46A-4533-BEF2-E19B8DBC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D60-F1E1-4DC3-84F0-4F129362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8ED-4DA7-4761-94DE-15837786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2CA-A025-4377-8F30-D79366EA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F67B-9984-444B-8990-37AB9C86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3674-1E93-446D-AAD8-57C64486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31AB-DD02-4BBB-9F8B-06AC6EBC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B8DB-C3F0-46E8-8DED-AF1FC1B5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979E-E52C-4B85-A445-194EAA82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FB53-E8C0-4366-A1B0-4482381B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C077-9EBB-4ADC-81AF-FD3C81CD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3A3-C77A-49B6-8DBB-3D22138B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B215-3D1D-4A94-81CD-829641B2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4AD5-4BB2-4E6C-8873-251771D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4948-3E8E-4100-B26A-F7A42F73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9363-E8EE-4BAA-B427-626DF110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8267-1253-49AA-A81A-EF33A6B7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95563-C09B-4D60-946F-AA189296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D68F0-0CF4-47B6-B8BF-A4A74849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8B26-F20F-4FD2-B6A7-41A79014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9D05-9786-4B48-8AF9-AC6B22F5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EAC82-0CF8-4CA2-96AD-E3CC0CB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ED8-04B3-4A6D-9EA2-D50C8942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3FB8-F468-4497-A9D8-6447D377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11A8E-8CC9-4AA7-81C1-FF4E683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ED3E-8A9E-4856-AB71-BBD14B23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EDD9-4D0D-444A-A30D-8FE826ED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B605-D671-4663-AB7F-B085C780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59CC-B5A6-444B-9C78-51DF6908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1A41-722A-4B41-B678-DC227A69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DCACA-099C-4638-A30C-CC01CB65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14DB4-54A3-4E31-9D6C-0ADE2309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5F7D-1C90-4C95-B44C-2FEF5667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855-EE61-4831-8E69-EF82D045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01A22-6C87-403B-8C6C-54A516DA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87463-2EE7-433F-BDFD-E9362D65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044F-066A-4509-8161-2EDD63E9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549C-229B-4116-880B-3821102B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E683-2159-47AB-BAC3-D536FC65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13842-90FE-48B0-A152-AD885C0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FF325-9522-4191-8A0A-8C0DC6BB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9348-B374-4895-8DFE-5DD7C006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681A-0DF8-45DC-BB39-AF2357A0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529EF-86D6-452C-94AB-65E34C9B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B05-8B5E-4F59-AF71-BD43E5F7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F0E29-74AD-4392-B383-6361F4B2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DCC2C-2A3E-480E-A42B-C927CD83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BAF23-60E6-4D41-A9CB-22A6F9D6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A054C-E410-4DCA-BB21-6E4DABFC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0471B-44A8-4E2B-970B-B4E07DEA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0AB4F-0ABD-4C10-BC06-8F2553E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00EA5-926B-4532-AE21-8EC40B17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B4923-1C23-4253-9203-807240C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2BB5E-DDED-40B6-BB12-E2FF13EB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48736-B75A-4533-9515-8377555A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A38-A388-4205-97FB-B73DC0A4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094E4-7477-4E24-8BFF-498BAFD0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FC9-0948-49DC-9E99-D7C2903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4A4-0FDF-4500-8423-ABBA2B5E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805-CE63-46E3-B0A6-7A751965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68E4-BD55-4BBC-ADD6-724A5EBD0834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3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2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5F71-EB1A-409C-AEAD-C2E41F6DC61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F2E7-2DAC-4509-BDCC-A20E10025B7D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5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5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9F3F-6B8C-4EB7-AC2C-07DF8DB5B721}" type="slidenum">
              <a:rPr b="0" lang="es-MX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0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0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0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A2EF-4EEC-471C-A35C-A79267F22B3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FINIENDO C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Dra. Yolanda Ramírez Villacor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LEMENTOS COMPONENTES DE LA CULTURA: </a:t>
            </a:r>
            <a:r>
              <a:rPr b="1" i="1" lang="es-ES_tradnl" sz="2800" spc="-1" strike="noStrike" u="sng">
                <a:solidFill>
                  <a:srgbClr val="ff0000"/>
                </a:solidFill>
                <a:uFillTx/>
                <a:latin typeface="Tahoma"/>
              </a:rPr>
              <a:t>INSTITUCION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94920" y="1844640"/>
            <a:ext cx="8559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GLAS O NORMAS QUE RIGEN LA CONDUCTA. IMPREGNAN TODOS LOS CAMPOS DE LA VIDA SOCIAL. LAS NORMAS SOCIALES SE HAN DIVIDIDO E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USOS POPULAR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SON APROPIADAS PERO NO OBLIGATO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MORES O COSTUMBR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SE SANCIONA MORAL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HABIT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SON LOS USOS ESTABLECIDOS POR EL TIEMPO. SON SANCIONADAS POR LA TRADICION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LEY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REGLAS ESTABLECIDAS POR AQUELLOS QUE EJERCEN EL PODER POLITICO Y SU OBLIGATORIEDAD SE GARANTIZA CON EL APARATO ESTATAL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LEYES PUEDEN SER CONSUETUDINARIAS Y PROMULG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84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LEMENTOS COMPONENTES DE LA CULTURA: </a:t>
            </a:r>
            <a:r>
              <a:rPr b="1" i="1" lang="es-ES_tradnl" sz="2800" spc="-1" strike="noStrike" u="sng">
                <a:solidFill>
                  <a:srgbClr val="ff0000"/>
                </a:solidFill>
                <a:uFillTx/>
                <a:latin typeface="Tahoma"/>
              </a:rPr>
              <a:t>IDE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8360" y="2017800"/>
            <a:ext cx="84866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ahoma"/>
              </a:rPr>
              <a:t>CONOCIMIENTOS Y CREENCIAS DE TODAS CLASES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: TEOLOGICAS, FILOSOFICAS, CIENTIFICAS, TECNOLOGICAS, HISTORICAS, SOCIOLOGICA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0000"/>
                </a:solidFill>
                <a:uFillTx/>
                <a:latin typeface="Tahoma"/>
              </a:rPr>
              <a:t>CREENCIAS QUE EL HOMBRE TIENE SOBRE SI MISMO Y SOBRE EL MUNDO SOCIAL</a:t>
            </a:r>
            <a:r>
              <a:rPr b="1" i="1" lang="es-ES_tradnl" sz="20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1" i="1" lang="es-ES_tradnl" sz="2000" spc="-1" strike="noStrike" u="sng">
                <a:solidFill>
                  <a:srgbClr val="ff0000"/>
                </a:solidFill>
                <a:uFillTx/>
                <a:latin typeface="Tahoma"/>
              </a:rPr>
              <a:t>BIOLOGICO Y FISICO EN EL QUE VIVE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. TAMBIEN SOBRE SUS RELACIONES CON SUS SEMEJANTES, CON LA SOCIEDAD, CON LA NATURALEZ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ahoma"/>
              </a:rPr>
              <a:t>VALORES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: PATRONES E IDEALES CON LOS CUALES DEFINEN SUS FINES, SELECCIONAN SUS ACTOS Y SE JUZGAN A ELLOS MISMOS Y A LOS OTROS: EXITO, RACIONALIDAD, HONOR, VALOR, PATRIOTISMO, LEALTAD, EFICI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ALORES: SE REPRESENTAN EN APROBACION Y DESAPROBACION, JUICIO SOBRE LO BUENO Y LO MALO, LO DESEABLE Y LO INDESE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LEMENTOS COMPONENTES DE LA CULTURA: </a:t>
            </a:r>
            <a:r>
              <a:rPr b="1" i="1" lang="es-ES_tradnl" sz="2800" spc="-1" strike="noStrike" u="sng">
                <a:solidFill>
                  <a:srgbClr val="ff0000"/>
                </a:solidFill>
                <a:uFillTx/>
                <a:latin typeface="Tahoma"/>
              </a:rPr>
              <a:t>PRODUCTOS MATERIA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82600" y="2233440"/>
            <a:ext cx="720576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ULTURA MATERIAL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AS MATERIALES QUE EL HOMBRE CREA Y UTILIZ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ESTA AISLADO DE LO IN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mensión Política de la Cultur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42600" y="2017800"/>
            <a:ext cx="831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lica que a través de la cultura se pueden manifestar distintas ideologías y formas de pensar, asimismo comprende sus diversas formas y medios de asignar el poder y la toma de decision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re otras cosas, incluye los tipos de gobierno y los sistemas de gestión. También la forma en que grupos pequeños de personas toman decisiones cuando no existe un líder reconoc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mensión Económica de la C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prende sus diversas formas y medios de producción y asignación de los bienes y servicios útiles y limitados (riqueza), ya sea a través de regalos, obligaciones, trueque, comercio o asignaciones de propiedad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mensión Social de la C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85880" y="2017800"/>
            <a:ext cx="816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componen las formas en las que la gente actúa, se relaciona con los demás, reacciona y cómo espera que los demás actúen y se relacionen. Esto incluye instituciones como el matrimonio o la amistad, roles como el de madre u oficial de policía, estatus o clase, y otros patrones de comportamiento human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mensión Tecnológica y Científica de la C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57160" y="2017800"/>
            <a:ext cx="809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Constituyen las herramientas y conocimientos, y su forma de relacionarse con su entorno físico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 conexión entre la humanidad y la naturaleza, las ideas aprendidas y los comportamientos que permiten al hombre inventar las herramientas, utilizarlas y enseñar a los demás sus conocimientos sobre ella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 cultura aglutina como un compendio todos los avances y los descubrimientos científico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mensión Estética y de Valores de la Cultur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la estructura de ideas, a veces paradójicas inconsistentes o contradictorias que tiene la gente sobre lo bueno y lo malo, lo bonito y lo feo, el bien y el mal, que son las justificaciones que cada persona cita para explicar sus ac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mensión Conceptual y de Creencias de la C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nstituye la estructura de las ideas, también a veces contradictorias, que la gente tiene sobre la naturaleza del universo, del mundo que le rodea, su papel en él, su causa y efecto, la naturaleza del tiempo y la materia y sus comportamiento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108000" y="2590920"/>
            <a:ext cx="2448000" cy="126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473280" y="130320"/>
            <a:ext cx="56707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 PRODUCTO, CARACTERISTICAMENTE HUMANO, DE LA INTERACCION SOCI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OPORCIONA PAUTAS SOCIALMENTE ACEPTADAS PARA HACER FRENTE A LAS NECESIDADES BIOLOGICAS Y SOCI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 ACUMULATIVA Y SE TRANSMITE DE GENERACION EN GENERACION, DENTRO DE UNA SOCIEDAD DETERMIN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TIENE SENTIDO PARA EL SER HUMANO, POR SU CONDICION SIMBOLIC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APRENDEN LOS INDIVIDUOS DURANTE SU EVOLUCION EN UNA SOCIEDAD DETERMIN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S DETERMINANTE BASICO DE LA PERSONA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PENDE DEL FUNCIONAMIENTO CONTINUADO DE LA SOCIEDAD, PERO ES INDEPENDIENTE DE CUALQUIER INDIVIDUO O GRUPO AISL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08000" y="2666880"/>
            <a:ext cx="261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SUMIENDO, PODEMOS DECIR QUE  LA CULTUR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7"/>
          <p:cNvSpPr/>
          <p:nvPr/>
        </p:nvSpPr>
        <p:spPr>
          <a:xfrm flipV="1">
            <a:off x="1908000" y="549360"/>
            <a:ext cx="1511640" cy="1727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8"/>
          <p:cNvSpPr/>
          <p:nvPr/>
        </p:nvSpPr>
        <p:spPr>
          <a:xfrm flipV="1">
            <a:off x="2411280" y="1341000"/>
            <a:ext cx="1008360" cy="1079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9"/>
          <p:cNvSpPr/>
          <p:nvPr/>
        </p:nvSpPr>
        <p:spPr>
          <a:xfrm flipV="1">
            <a:off x="2771640" y="2166480"/>
            <a:ext cx="685800" cy="685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2863800" y="3213000"/>
            <a:ext cx="6094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1"/>
          <p:cNvSpPr/>
          <p:nvPr/>
        </p:nvSpPr>
        <p:spPr>
          <a:xfrm>
            <a:off x="2843280" y="3616200"/>
            <a:ext cx="576360" cy="389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2484360" y="4022640"/>
            <a:ext cx="935280" cy="701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13"/>
          <p:cNvSpPr/>
          <p:nvPr/>
        </p:nvSpPr>
        <p:spPr>
          <a:xfrm>
            <a:off x="1979640" y="4073400"/>
            <a:ext cx="1224000" cy="1371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FINICIONES DE CULTUR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468360" y="1197000"/>
            <a:ext cx="8207280" cy="496872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403280" y="1981080"/>
            <a:ext cx="728352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cc"/>
                </a:solidFill>
                <a:latin typeface="Tahoma"/>
              </a:rPr>
              <a:t>Edward Tyl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00cc"/>
                </a:solidFill>
                <a:latin typeface="Tahoma"/>
              </a:rPr>
              <a:t>“… </a:t>
            </a:r>
            <a:r>
              <a:rPr b="0" lang="es-MX" sz="3200" spc="-1" strike="noStrike">
                <a:solidFill>
                  <a:srgbClr val="0000cc"/>
                </a:solidFill>
                <a:latin typeface="Tahoma"/>
              </a:rPr>
              <a:t>el conjunto complejo que incluye conocimiento, creencias, arte, moral,ley, costumbres y otras capacidades y hábitos adquiridos por el hombre como miembro de la sociedad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3 Rectángulo" descr=""/>
          <p:cNvPicPr/>
          <p:nvPr/>
        </p:nvPicPr>
        <p:blipFill>
          <a:blip r:embed="rId1"/>
          <a:stretch/>
        </p:blipFill>
        <p:spPr>
          <a:xfrm>
            <a:off x="1054080" y="1414440"/>
            <a:ext cx="6078600" cy="348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mains-05"/>
          <p:cNvPicPr/>
          <p:nvPr/>
        </p:nvPicPr>
        <p:blipFill>
          <a:blip r:embed="rId2"/>
          <a:stretch/>
        </p:blipFill>
        <p:spPr>
          <a:xfrm>
            <a:off x="6215040" y="4357800"/>
            <a:ext cx="1646280" cy="1582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FINICIONES DE CULTUR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468360" y="1197000"/>
            <a:ext cx="8207280" cy="496872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403280" y="1981080"/>
            <a:ext cx="728352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2060"/>
                </a:solidFill>
                <a:latin typeface="Tahoma"/>
              </a:rPr>
              <a:t>Clyde Kluckhoh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2060"/>
                </a:solidFill>
                <a:latin typeface="Tahoma"/>
              </a:rPr>
              <a:t>“…</a:t>
            </a:r>
            <a:r>
              <a:rPr b="0" lang="es-MX" sz="3200" spc="-1" strike="noStrike">
                <a:solidFill>
                  <a:srgbClr val="002060"/>
                </a:solidFill>
                <a:latin typeface="Tahoma"/>
              </a:rPr>
              <a:t>todos los modelos de vida históricamente creados, explícitos e implícitos, racionales, irracionales y no racionales, que existen en cualquier tiempo determinado como guías potenciales del comportamiento de los hombre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5"/>
          <p:cNvSpPr/>
          <p:nvPr/>
        </p:nvSpPr>
        <p:spPr>
          <a:xfrm>
            <a:off x="684360" y="3141720"/>
            <a:ext cx="8208720" cy="3456000"/>
          </a:xfrm>
          <a:prstGeom prst="foldedCorner">
            <a:avLst>
              <a:gd name="adj" fmla="val 12500"/>
            </a:avLst>
          </a:prstGeom>
          <a:solidFill>
            <a:srgbClr val="99cc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sde lo teórico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82600" y="191628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s culturas son productos sociales que representan la capacidad de relación y respuestas de cada sociedad a su situación concreta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6920" y="3328920"/>
            <a:ext cx="7777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ncontramos en las culturas reales tres dimens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na producción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n sistema de relaciones y comunicación entre sus miemb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na ideología y un sistema de valores, normas y sanciones que organizan, enlazan y jerarquizan los dos campos anteriores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179280" y="299412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Franklin Gothic Demi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2989440" y="785880"/>
            <a:ext cx="6190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PRODUCTO DE LA INTERACCION SOCIAL DE GRU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 Black"/>
              </a:rPr>
              <a:t>FORMA DE VIDA DE LA SOCIEDAD, UN MODO DE PENSAR, DE ACTUAR Y DE SENT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IGE LA RELACION HOMBRE-MEDIO AMBIENTE; PERMITIENDO LIBERAR AL HOMBRE DE LA DEPENDENCIA MECANICA DEL AMB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 Black"/>
              </a:rPr>
              <a:t>DEFINE LOS PATRONES DE INTERACCION SOCIAL Y DE RELACIONES SOCIALES. ESTO LO HACE A TRAVES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 Black"/>
              </a:rPr>
              <a:t>NOR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 Black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 Black"/>
              </a:rPr>
              <a:t>CRE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1835280" y="1196640"/>
            <a:ext cx="1081080" cy="1584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2125800" y="2276280"/>
            <a:ext cx="863640" cy="86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2195640" y="3357720"/>
            <a:ext cx="863640" cy="502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13"/>
          <p:cNvSpPr/>
          <p:nvPr/>
        </p:nvSpPr>
        <p:spPr>
          <a:xfrm>
            <a:off x="1835280" y="3860640"/>
            <a:ext cx="1081080" cy="1152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0"/>
          <p:cNvSpPr/>
          <p:nvPr/>
        </p:nvSpPr>
        <p:spPr>
          <a:xfrm>
            <a:off x="4788000" y="2276640"/>
            <a:ext cx="4105080" cy="2304720"/>
          </a:xfrm>
          <a:prstGeom prst="downArrowCallout">
            <a:avLst>
              <a:gd name="adj1" fmla="val 44533"/>
              <a:gd name="adj2" fmla="val 44529"/>
              <a:gd name="adj3" fmla="val 16667"/>
              <a:gd name="adj4" fmla="val 66667"/>
            </a:avLst>
          </a:prstGeom>
          <a:solidFill>
            <a:srgbClr val="00e4a8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611280" y="2349360"/>
            <a:ext cx="3168720" cy="1224000"/>
          </a:xfrm>
          <a:prstGeom prst="downArrowCallout">
            <a:avLst>
              <a:gd name="adj1" fmla="val 64726"/>
              <a:gd name="adj2" fmla="val 64721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63760" y="463680"/>
            <a:ext cx="76802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CARACTERISTICAS DE LA CULTUR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755640" y="24703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COMPORTAMIENTO APREND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900000" y="403848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CONJUNTO DE CONDUCTAS ADQUIRIDAS A LO LARGO DE TODA LA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4932360" y="239724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DERIVA DE LOS COMPONENTES BIOLOGICOS, AMBIENTALES, PSICOLOGICOS E HISTORIC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DE LA EXISTENCIA HUMA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148360" y="486900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 DEBE DISTINGUIR ENTRE LA SITUACION NATURAL Y LA SITUACION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8"/>
          <p:cNvSpPr/>
          <p:nvPr/>
        </p:nvSpPr>
        <p:spPr>
          <a:xfrm>
            <a:off x="4859280" y="2349360"/>
            <a:ext cx="4033800" cy="1511280"/>
          </a:xfrm>
          <a:prstGeom prst="downArrowCallout">
            <a:avLst>
              <a:gd name="adj1" fmla="val 66734"/>
              <a:gd name="adj2" fmla="val 66728"/>
              <a:gd name="adj3" fmla="val 16667"/>
              <a:gd name="adj4" fmla="val 66667"/>
            </a:avLst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611280" y="2349360"/>
            <a:ext cx="3600360" cy="1800360"/>
          </a:xfrm>
          <a:prstGeom prst="downArrowCallout">
            <a:avLst>
              <a:gd name="adj1" fmla="val 50000"/>
              <a:gd name="adj2" fmla="val 49995"/>
              <a:gd name="adj3" fmla="val 16667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63760" y="463680"/>
            <a:ext cx="76802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CARACTERISTICAS DE LA CULTUR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755640" y="24703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ACUMULATIVA Y SE PUEDE TRANSMITIR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DE GENERACION EN GENERAC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900000" y="4340160"/>
            <a:ext cx="33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A SIMBOLIZACION FACILITA Y HACE POSIBLE ESTA CUALIDAD DE LA CUL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4932360" y="239724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APRENDIDA Y COMPARTI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ES HERENCIA SOC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148360" y="4341960"/>
            <a:ext cx="3456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REFLEJOS E IDIOSINCRACIA PERSONAL SON INFLUIDAS O MODIFICADAS POR LA CUL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8"/>
          <p:cNvSpPr/>
          <p:nvPr/>
        </p:nvSpPr>
        <p:spPr>
          <a:xfrm>
            <a:off x="4716360" y="2276640"/>
            <a:ext cx="3240360" cy="1223640"/>
          </a:xfrm>
          <a:prstGeom prst="downArrowCallout">
            <a:avLst>
              <a:gd name="adj1" fmla="val 66209"/>
              <a:gd name="adj2" fmla="val 66203"/>
              <a:gd name="adj3" fmla="val 16667"/>
              <a:gd name="adj4" fmla="val 6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1280" y="2276640"/>
            <a:ext cx="3240000" cy="1223640"/>
          </a:xfrm>
          <a:prstGeom prst="downArrowCallout">
            <a:avLst>
              <a:gd name="adj1" fmla="val 66202"/>
              <a:gd name="adj2" fmla="val 66196"/>
              <a:gd name="adj3" fmla="val 16667"/>
              <a:gd name="adj4" fmla="val 66667"/>
            </a:avLst>
          </a:prstGeom>
          <a:solidFill>
            <a:srgbClr val="02e2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63760" y="463680"/>
            <a:ext cx="76802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CARACTERISTICAS DE LA CULTUR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755640" y="2470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ESTRUCTURA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00000" y="3838680"/>
            <a:ext cx="29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IENDO UN TODO INTEGRADO EN RASGOS, COMPLEJOS Y PATRONES O INSTITU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5292720" y="2492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DINAM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859280" y="387828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CAMBIA DESDE DENTRO POR DESCUBRIMIENTO E INVENCION Y DESDE FUERA POR PRESTAMO Y TRANSMISION CULTU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8"/>
          <p:cNvSpPr/>
          <p:nvPr/>
        </p:nvSpPr>
        <p:spPr>
          <a:xfrm>
            <a:off x="5076720" y="2276640"/>
            <a:ext cx="3456000" cy="1152360"/>
          </a:xfrm>
          <a:prstGeom prst="downArrowCallout">
            <a:avLst>
              <a:gd name="adj1" fmla="val 74983"/>
              <a:gd name="adj2" fmla="val 74977"/>
              <a:gd name="adj3" fmla="val 16667"/>
              <a:gd name="adj4" fmla="val 66667"/>
            </a:avLst>
          </a:prstGeom>
          <a:solidFill>
            <a:srgbClr val="d6009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684360" y="2276640"/>
            <a:ext cx="3166920" cy="1152360"/>
          </a:xfrm>
          <a:prstGeom prst="downArrowCallout">
            <a:avLst>
              <a:gd name="adj1" fmla="val 68711"/>
              <a:gd name="adj2" fmla="val 68705"/>
              <a:gd name="adj3" fmla="val 16667"/>
              <a:gd name="adj4" fmla="val 66667"/>
            </a:avLst>
          </a:prstGeom>
          <a:solidFill>
            <a:srgbClr val="d6009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63760" y="463680"/>
            <a:ext cx="76802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CARACTERISTICAS DE LA CULTUR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971640" y="2470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684360" y="373212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EXPRESION DE SU CUALIDAD DINAMICA: SE EXPRESA EN LA VARIABILIDAD CULTURAL Y EN LA VARIACION EXPRESADA EN DIFERENCIAS DE COMPORTAMIENTOS EN UNA MISMA SOCIE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5146560" y="239724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ELE SER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ETNOCENTRIS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5148360" y="389880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CONSIDERAR LA CULTURA PROPIA COMO CENTRO DE TODO EL UNIVERSO Y BASE DE TODA COMPARACION CON OTRAS CULTU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8:55:49Z</dcterms:created>
  <dc:creator>Jaime Nalvarte Armas</dc:creator>
  <dc:description/>
  <dc:language>en-US</dc:language>
  <cp:lastModifiedBy>Yolita</cp:lastModifiedBy>
  <dcterms:modified xsi:type="dcterms:W3CDTF">2009-05-16T13:54:45Z</dcterms:modified>
  <cp:revision>39</cp:revision>
  <dc:subject/>
  <dc:title>DEFINIENDO CULTURA</dc:title>
</cp:coreProperties>
</file>